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FF5-C572-4B08-B16E-DD87B083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6A9-9028-414B-8A60-D6A34B7D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086BB-9704-44E7-A0BC-C9001554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F2D1E-312E-4BC3-9F41-D9FFB0F1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E2117-6CED-496A-AE0A-573E61CA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A2076-365D-4EA9-844C-BDFCD48A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FD3CE-78E7-4963-AD31-08643C38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AF0F2-4324-455F-98D0-135E9ADC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5CE3E-CA5A-4D74-BCA6-079F94F7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F7B26-B6B8-4DC1-A927-EA6FA26E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738E7-50F9-47D3-B650-EE17574A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B1F6B-55EE-434E-9830-30EF0850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CEB-EA67-46C5-AD88-B72D557D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97BE3-86BC-4AD3-AA7F-9E8C18E3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C2691-AA76-47B0-AAE6-F4E0CDBA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6DBF9-14BB-4941-A0BF-5F673DB2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3AED9-FF13-4F3A-9D46-BCA549C7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B6B02-81A3-4C2E-9063-F1F481DA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43D4C-DB44-4E2A-97AC-95B05540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4DBAE-CDDB-4E47-B17D-B594F874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8DD7C-BB21-49D0-A379-52C53D4A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21849-14F8-4578-A01F-1D64F29B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142BD-C892-431E-94A1-4380CB1F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947-71E2-49BD-AC09-2397426A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0D4A9-76B6-4D7C-8200-647992B9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5F6C1-C043-46EF-97C7-1EE0C575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6B351-723F-4600-AE01-72098E85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DAF32-D808-461F-93C9-FC4FDC45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B7571-C8E2-42AC-BBB6-B538A121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566BB-003C-4F61-91B1-4AE12769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183DF-6460-4EB6-93E7-CE2115AC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29CC6-0CEA-4027-8539-FD83AD8D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740C3-2085-4419-A323-815E2E55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46474-7AE1-4E48-9789-35E4622C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9E06-6F18-41D7-947A-AF37BF5D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F99EF-5EE3-40FA-B625-AAC8D06D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1E7E6-3AC4-4F42-9543-7089F079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84A3A-76C5-4026-A2F0-623D72C4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459550-9D8C-4822-BB65-861474D3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E3DD9F-A45D-4C8A-944F-3A9304F4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CA0CF8-AC93-4570-9BAF-33A0F891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87EC83-0E48-4651-AB17-497791AA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937593-8F66-40A4-8634-607E8543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0C7D09-16A1-4D56-B8EE-3A9E69C4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5FFA99-267B-4278-B969-642EB5A1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980C-3538-4192-83AF-63146C4B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CB11AD-AD85-4B44-BE7D-A55F49A1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2D1DF6-A067-4D01-9C2A-DE0C2C1C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A68AE4-8B29-4847-8E60-552605DA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E6E907-9E78-4C9E-9D94-A124DB51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1D0834-879B-404C-9E11-1DEBC74F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E50B6-2F4F-4AEC-9054-90AB1D8B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F2D7F-F8BC-49F3-B3FB-4EF30F42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B6F0E0-97FC-4B8E-BCB0-9FFAC589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59C22-5CF8-4976-8078-A7576CAA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A8714-D889-49F8-A572-EBB00685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BB58-25E7-4F44-B547-AE904A01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F7927-3EA0-4B22-BB5D-14CA9063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1E0A8-D5BC-48A3-A945-D2926ED3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4C274-D531-434F-8972-62940BDD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D4960-920F-4DE8-BAB2-6B8F2887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15833A-C13C-4324-BF32-572CAA2C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09547-1F10-4D28-ABBC-E9BD51E4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93C73-6BFE-4983-ACFD-B02A8CFC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D3D561-1004-45E8-8851-D967E37A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79EF41-C21D-46B1-9CFE-CB5EF3BA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34BA37-714D-4EDE-8119-6F1EB2FF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5359-E81C-4C0B-A18B-BAD1FF98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C4BE9A-3A1A-49BD-B25F-002B4F80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CB98D3-47F5-4465-9A1B-4B6FA7E8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9ECC44-1C5F-4E2B-937E-6D4864B1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8C0B43-BD55-4203-9090-49510441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5155D4-64C3-414C-8EE8-EE2D73BB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FD5F25-602E-4D3A-A58B-C17573A3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BC90B0-445F-40D5-B54B-8C1901F1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5DCB72-5D59-4FDF-B84C-73E78EE7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0D5A69-E85E-4A6D-A70B-79732453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C863A4-8661-454A-8345-EC4495CA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A8C0-F207-4D31-8E1A-A8431EC3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7ABDAD0-4977-4804-8DF8-DC84F047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725225-811F-4666-9D63-01B4AE93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5EE02B-C41B-4D40-9AC0-2210A753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E422EE-3B69-4F2E-83FC-BF8BA068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FFDAEC-C3DF-4058-9770-4BE484FF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8E4FA9-C2EC-4BA2-91F8-9F016F70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A3A1548-5F86-46C2-BE3F-DFC3DD52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38F40B-A309-42F8-9943-64E415E0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0989F6-8999-4356-8C86-65D964F2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20C34F-8924-4660-B0C8-DA030756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0D99-C79E-4166-AD0C-A4B9EC79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0DD20A-402E-4B26-BB9B-3DA98EF0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F76861-8D47-441C-852A-2D71BB02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862284-CA87-41F6-84E9-3006D934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321619E-A97B-41F2-905A-AFC15AF9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9E6E5B3-1D4E-4E77-BD4D-66984C05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3A2A6E0-F10C-4770-80D7-35FA5ADD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ACF375-9670-4DD4-8BF4-B5C1C453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CCA84DE-41B1-4C08-851D-616C8EC4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1E6EE99-A4A1-44A9-A7D8-68BDE549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F2ACB2-1733-444E-B97C-615FE83D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9980-6362-44DA-880F-9125853F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7F1849-4654-4CC8-95C4-F96EFFCF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5F1E3F-5893-491D-96FD-C8816A5B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E3525C-1FC6-40AE-A805-0B4FF8EE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832FEF-1D08-4F5B-ACDE-DDDF0ABB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756DF-F427-43D9-BDE5-B55C9CDD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73932E-790A-4A67-A1FB-A333EF2B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8D8FBC-30FF-4977-A227-B6839646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0C2214-2322-4E61-995E-3A8F9B70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37CA5-0C47-4573-B413-B1D3A960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81915B-FF70-4D5D-915A-DAEAF862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32F-4318-4F7A-8317-CB72971D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7DB8-9C04-431F-8FD4-EB1CD618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1FAF9-B13A-49FF-A82A-F7D93635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EF89BD-166C-4CAE-B7BA-0AA6515B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D2BD27-1DEC-43CE-B0FB-B9A1B5C0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2517C3-B300-42FF-8E79-6261FC6F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5580CF-51C4-4D8D-8449-F8207ECC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AD2A69-1BEA-4A5E-87B8-22F0D490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FB72FC-C929-4D63-B40E-586687A3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819D01-7648-46DE-963E-61BE597D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D7155C-0694-4556-9011-FCBDB0FA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0427ED-80DC-447E-86BD-205B9C1D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5C3D-1764-4FDC-A9CD-27CCFC04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32DDA7-6DA5-4F31-B364-9C05D27B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68F369-EBB5-419E-AFC6-4AB254B6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CAE0D9-A9FD-4C92-B186-D6763A40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475C57-17BC-46D9-96A6-9FE9F55E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138F6A-AB09-438C-9515-0405069E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9F81D6-2D1E-4A97-9C35-67C52BB8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5CF034-5567-4512-AF2A-CFB77A37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CAB7D7-4FF1-4179-B6E8-37A56A6C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F896FE-6014-418C-B3FB-B3680CC7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7081B4-5FCD-4ED6-84CC-20B67C7E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8861-5F16-4C9F-B41B-7ADA5BF5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619799-B3C8-45F1-A0EC-670F5E3C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2ACCFE-E874-4C58-A4F1-8643873F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D742A0-CCF7-4DDE-9BEE-13D10661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D5C449-9CBC-4268-8F35-CF83C7DB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B0570F-7A4F-4ED6-9A84-9CF501A1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4830B3-537C-4659-B1E9-4302EFF1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312344-93F0-4B71-B905-0452A7A7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EFA78F-AB6B-48D5-8ACE-913CAA1E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712975-F5FA-45A6-8FF4-452FEEDD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19A570-C77C-49BD-99DF-528275BA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841F-A7C7-4E72-9D14-AA72F6E9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D0B991-D9C7-4029-82C8-0BD46E5A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272AD0-7015-41A9-8D72-00B93157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50EA5C-5F53-4786-B1FC-9FF56938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B3F7DD-1962-4AA0-8541-76D97480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8C9BB3-5E7A-430F-901D-D68D2DBB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09644E-059E-43D8-BD86-042D8284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8CFC44-6A49-4634-82BD-10BE9A9B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4A2E4D-D741-4578-A3EA-5B4FCC59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1C9E64-4A8D-484A-9335-82799DF7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A0DDCD-E1F3-44C0-9BF7-73B31241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1481-0EE6-4B02-835F-4C5D55C2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32AA6A-1D7F-4603-BA56-279DE196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330710-F70A-4694-B47F-051607E6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299B13-26DB-4DED-AA80-CB1A812E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7CFB69-121E-43EC-856C-1DBF32EA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289A99-7D56-4415-B8F0-3425E401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FD0A23-E30D-466C-B13A-62A168D7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D5F83E-29D4-4643-81A4-ADA67047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539764-C43D-48D6-9B84-FA36C7F9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02EAAA-E3BB-4F17-9048-9B9075B6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F38378-A151-4A16-B15B-B99F576D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290C9-DDEB-4E22-85E3-720FE76B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E6B50D-2466-40B2-9BD8-8E2B3800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4CDEF1-C6D8-4BC6-A914-B9175C0A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77933B-E5BF-44E4-B102-98B903BB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B50054-6F2B-4501-AD11-1D2B4ADC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941074-2688-4675-8197-FF8C1A84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40F1AE-17A7-4830-B5A0-795EC826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79BFCA-7E13-4912-94D8-5E878D26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7960E6-9C00-44A7-9B5C-076B459A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A50EFA-61BD-4DE2-8C4F-4DCF8914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C5B599-34C4-4DDC-AD34-FC41D0FC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105D1-820E-445E-B5A1-49DE45C9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2040FC-4531-4139-ADED-D2DAD7C7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806532-9636-41CA-A1A3-51BF2649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D051F4-501B-4EE6-83AA-72F9CAB8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A6D87C-05DE-44B6-A55C-652EC20A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0AFDA6-3166-45F9-8BB9-CA15ED1F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252264-DAFD-423E-BF77-D803BF8A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DA4C55-5429-47DE-BBF7-9393A504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751518-1D0B-4263-B449-0E6598FF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2F3E60-D410-4C00-8739-CE0A1E1E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23CA68-A7F5-49BA-92B7-33E6B1DE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7A504-2941-4943-BDCB-BCE2D0CB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01E92F-896B-4A4F-B996-A3CBA9D0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0280D4-C4B8-4F7E-A732-AFDAE2C4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6BBD4F-A6B6-4737-BD6C-B504C23E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53B8AF-7CA8-4976-AF18-8D337F26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25940E-CE32-4930-9B15-789C9E3B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E1A201-3F2F-47BC-822C-0C110236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D07A54-0BF3-4BDE-B22D-8E69E163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5BDFE96-C7A2-49CD-96C4-AF19D658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2FA4181-C1AB-4F08-AA3C-6A85266C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811B3AD-0BC5-4957-A7C2-CED70DE1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2BE8B-A217-4307-ADFA-21C49687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EBF67F7-92D3-4F5C-8CF7-8A217851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7ABAFB6-A5CC-43FB-9936-C9CAE1F7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C833A5C-1B3B-41BD-9EE1-88F365DF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43551EC-21DC-4F31-91FC-6D59A609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0BFE9CD-F30B-45CF-939F-74CA6BF1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1D27270-24DB-409F-B1AE-1C8818D7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3435488-38BE-4407-BBE4-3F5AD2F3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3C779B1-5D09-40B2-81BD-B92231F5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13296FF-1C15-4995-9115-D6706135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58ABA25-5977-4288-A723-8AE641FC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4DD13-A0F1-409D-B440-CC0B5D5E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895DA37-3F4B-4BA6-B8BC-BA9D34FB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D698B33-A08B-47AE-AB3E-421FEA66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8B19318-68E3-4D09-88B5-B4777F0C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6FA99D4-56C6-4FB8-B004-79E96723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BA33538-534B-4490-B979-B411986B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DB9E4A1-BD36-45BC-9717-8D92532A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1CB2C77-C703-4624-87E9-C31DB778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7E6318E-D810-44FA-AF03-F4A2FDD6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6E5C945-0E07-427B-AFD5-182A9481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D12B642-8F70-4552-ABB5-3C9AC44A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C31-BD40-4B7E-8A1E-A33BF6AA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40E54-0EE4-4C68-84FA-089A4973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B8BBBBE-366B-4E13-AF69-0A1FF476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20EF6F-10E9-4FDE-8328-CAB2C8BE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E38866-BD7A-470F-AFB8-C8A3A23E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E9715A-9BB2-4115-BE18-5CCF8892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9887A3-6BE6-4739-ACA8-1A9FE7FA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6699A5-46A5-4BEE-95CE-94B5CC03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839C8D-5E37-42CE-A574-82EEC20F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7DD25C-0149-4126-B8F2-7277842C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781982-6AA0-4744-91CC-397E071F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F24D82-1150-4FDB-92E5-E0E5BCB8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C291A-AD87-4A1D-9796-0F61614A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FECEC2-AB3B-43BC-9A21-B3888B91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A4E994-85D3-4C7D-9E71-534C6322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D7A1E2-7886-4D1C-AB20-9A08C305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5057B3F-36A7-4CDE-BBA5-3B8F3CC8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6D8C9E8-B117-4E15-BEB1-06EF0E25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D97C9AA-5D55-48B1-A64F-8FF89806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D54EB6F-0960-4DBB-942F-E26A55B8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5211DF0-7277-441D-B050-785FAF7F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1D92348-21E7-4009-AD1E-4BB45F22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3D07EE8-3FF5-490A-A612-37B20EC2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59AD-4AA7-409E-96EB-025F3D45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9697BE4-A813-4521-BADC-D53A0FE4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3E2D29C-D654-4255-9FF1-A917E2DF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5AC1709-F4AB-4AC0-AC68-8F1CAFEC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78BF9E7-712A-4598-A8E0-3E987F4E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4226A8F-CC73-4EC3-9D18-5EC00B95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838F3B-7116-453E-ADDC-3E590D79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1B3676-BDC5-47EA-8543-40441783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17276E-2F19-42F2-B53C-92182294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3AF9C4-DAB9-40F6-B977-B7BCE77B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A4E39D-CE54-4467-A9F8-9BB44919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850F3-F0C0-4203-BB20-6892EFD6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080C7B-BCCE-4825-AFAF-67A8EA6B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E8EB5E-C3F0-4E56-9031-E07FA36C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49D215-999C-40A8-8BEE-0BB13C36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065250-8750-40E4-B6E6-8E5CEBB4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8131F4-0715-4A28-BB2E-F3A647F9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17E080-850A-4826-A1EC-A6D28BD3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215B0E-8407-4AC9-B33F-3722897C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D19177-F60D-45C0-BDCF-0C1CD610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0137AA-54D9-43F6-BC2F-9DB4AFE8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ED9358-2FF2-4B7D-944C-52B15814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45781-46AF-4086-8302-1C402705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7F765E-4A14-4FE2-B185-72F69E17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D40948-3633-4927-884F-6A6C3789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D66C87-03E6-449F-ABEB-1EC5D571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26C7D5-7E7F-4809-AD7A-AFD0CD2B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C78AAF-2DCC-4D83-9ADF-70F378B3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2A1A7A-071D-4A47-BAE3-ED75F140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EA2235-DE1C-4273-B597-7262D56C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C0D744-6F32-41F6-86A9-87AB4F1C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01C848-633B-46F7-9FD9-2295B895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E6A6C2-382A-4A89-8F44-822CDC65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90439-506E-4E99-B7BE-50FE937C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0D269E-95E8-42A8-AF45-279972AB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71AA45-15FC-4341-958F-07CCF284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D96CFD-A682-4A04-B8FE-3071CD82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A3B8E9-20C6-4C3B-BD20-B56DFCE0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8AA272-A0D3-48E4-BA5C-1B3A25B5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B7772B-5EB6-4A2F-B794-81AADA5E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485E98-44FC-4641-83C2-21162813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E12FE3-389A-48CB-9988-8A22BDBB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F3432D-2258-40E3-815F-442B69D0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5DBFAF-F398-4349-985E-32E2318D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B21E1-825C-4A8E-B045-0DE3BBA7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0A2F86-4B94-4FDB-9652-4378317D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F5BE9B-3106-4421-A68F-B5F242F5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BC3530-BE9B-440B-9D86-58A646A0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CB66B2-2F19-44A3-84F0-1E30CBCC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5A6A7E-B2C3-4719-8678-63B927E9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5F4C26-B8FC-49EF-888C-FA63EE47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6E4297-291D-4060-AD14-016A5090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D46214-1722-4635-96AA-A2CA43DB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A68B5C-C16F-4088-BB48-C13BC5B8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D6A1B8-1F3E-4869-AFFA-307735B8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D6202-93EA-4F49-9C0C-95AB4D8A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5F5FA0-4C2F-4625-A596-5E409295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2DFC0A-8CBC-4D81-9E0B-883A3FCD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E60088-2AD9-48DE-9106-42833BF2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8FF06B-7C0E-43E1-9452-1454DC7F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961265-368C-47AF-B76F-9FC142A1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6A9D2E-0D71-4964-9912-BEAF4399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C4E633-CD61-48FA-ABF4-24C750DA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162467-2ADE-4D33-A4D5-DEC175D4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BF4649-8E86-4A60-82E4-167279EA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F65A0D-50D1-4F7E-A66C-459DFB94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A1BF8-C587-4355-B3EC-7F3F3235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332E0B-5076-4D12-825F-78658459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33D288E-ECBD-40B9-9175-5841A568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ACC35F-7439-465B-8745-2B6E573C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5CE791-13A4-42F5-80A8-508EE672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AC5B98-16BD-47A4-B7EC-A99E7B61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3565D4-071A-44AE-8B54-33DF3046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997F90-BB8F-4487-80E0-3DE467CB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AA4512-26D3-48E0-B29B-1965E6D5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3CFFC84-FED9-4A49-B790-EFC66FE5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97091C-ED12-482E-91A6-020B8BF7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88FF8-D1DF-4897-A914-95C67A40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5A2A98B-E7D2-481F-9A43-61D55C27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DDC0B0-7E60-44C1-8E4E-1BE369CD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C9B47F-D26B-4809-ADCF-F6A9C682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7B56422-B037-429D-BE7B-90419237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E770CF-7814-42D2-A810-E23B7B04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A14CF4-384D-46CA-B8DC-AE41FBE5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9FA212-8A74-434E-AC6E-F4B4237C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FB9726-96BE-4A03-A61D-56DE64B5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66AE0E-170A-42B4-967C-66F2FF25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C2BE05-AE9F-47D5-9D19-FE64354D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67AE-FE11-449C-BDED-EED5AE1C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534C1-17BD-4162-AEE5-6F923A5A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3F3168E-3453-4EAE-94CF-C15B9EBF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858BB4-AA2E-4D7B-BD5E-321BC20A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2F4F3AD-0697-4D00-927E-B0C1AC04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7B1F08C-68A5-4E01-84F9-101CA3B2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0E8077-74B9-4BE5-9404-B48D4F34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CEE170-A499-4756-8295-F8661AE8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3694D8-65B1-4305-97DC-28EFE7A8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1C4F56-D6F1-48FB-8284-8F0BB04F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8780F2-BE28-43A0-A00C-2687424C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75726-A48B-4302-967F-D365739A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2EB02-05C9-49ED-B9E6-B4C4520F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0BEAC-1F1A-4F52-BA0D-979A1EC1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8AC58-7AA0-4A50-97CB-8DBE883A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6A7EB-AA35-4284-A5F9-CEA654F3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C65DA-5026-45C8-9619-4659DA5C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523D8-1C4F-4AC0-9AF6-72D3B033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61028-1396-4D00-9158-6627DD07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437CA-BF42-412B-B98A-F3D76D47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2CB4-2CBE-4AD6-8D63-EAE70226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93C40-D8F1-4252-9510-E02E860C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BA2D2-72A6-41CB-8C7D-541F4B7D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B1D9A-D615-4AAE-81F5-D8D477A2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A8FAF-0623-4C76-99E6-755BBAD2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E975D-257F-440A-AD1B-1C4DFF34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9504A-202B-49A4-A864-4288DC41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05AC6-F3DF-47C9-AD9F-A035B567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0DA76-1C53-40A7-B532-B5F239C6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9A724-CE00-4DC4-A874-4879A154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BBF92-63AE-484C-BFB0-C6678963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FA1-4BF0-4338-A702-4320C132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8BF48-95CE-434B-BD15-091C12EF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609BA-E3E7-4843-8EA8-7DE84029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70BFF-766A-4F8F-8187-E52A091F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2738F-69DF-45F2-B38B-A5F6521A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D1297-4432-42E3-B584-309B9056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B639D-AE34-4235-85B6-F003C78F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6D2AB-D633-4B44-8DDE-ACF7A2B0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FA9A5-62C5-4A8B-A7F8-D9630A7B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C4913-F54A-4562-9554-F3298799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E2D96-B911-449F-B445-53E62AFD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1DD-6D97-440A-A382-5EF21CD5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813B7-C608-45D1-AF42-717E07E4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CD6A5-3DE2-48F7-9DD8-4EDB7F8A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1891E-8CA7-4652-AAB8-73A73DE1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1CA44-8528-4748-AD74-10BBC858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0A3F5-E561-4F93-8F8C-409546A3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AA1BD-51C6-4AB2-B60E-C3D6C8FD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5759E-4D6B-4180-AEFF-AA14D0FB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33955-F003-477B-AEA8-E2B47366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AB78A-8A42-4CCC-B34C-70687BBE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EA8DE-E538-4FE0-BF4A-143CF026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AE9-024F-43BA-B33E-925E5942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543B0-43FF-415C-AEDC-10729D06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06AD6-4294-4732-A54B-099F4173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B0E6A-E027-4F9D-924E-17F52354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F9880-E6B1-42B7-9F24-B93DD85B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F85F7-E633-4B1D-B872-B5837FE4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41673-355C-4698-8A18-10537BE3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48149-DE07-47D7-87FD-245B48F6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D2BAA-1936-4C2E-8BF6-9DDF8C1B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46BDD-AAD2-4072-A969-E8BF983B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390C3-ED4D-4280-9D13-57C5A1C1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0A5-48FF-4112-8379-8B1A74C4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E7C07-9E39-40A2-8858-74F9769D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9778B-4863-4BB1-87B1-5C761CB0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E2098-8569-48DB-B37D-B93FACA4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DA8C1-7DB9-4085-82B4-8471ABD1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F4673-FDC2-49A9-AE32-E26617B6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80727-B1CC-42C0-89CE-D0CB1BC1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08CAC-9381-4695-BCD7-4025B8BC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AAC85-D8EA-4511-912E-F959DC21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BF589-528F-467D-BFBA-C2A0DC37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7C682-68DC-41DC-8CE0-32C10F78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4AD3-BDF5-4441-90FF-5C06AD0D229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E561-2971-48CA-9BBA-76DF8714225C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5588-25E8-4B22-BF74-BCF605180B2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CB87-E79D-47C2-839F-53973B4A96B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1F11-817F-41BF-A06C-AD88B6DBA10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sldNum" idx="4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D9F4-06B6-4E7B-8C11-039E368B148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4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707E-2EE4-499D-9E2A-C39D5386936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sldNum" idx="4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0C8C-ADC2-4E99-940C-FEC9823089A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4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4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1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B2E7-B04D-4C88-BAC1-8291B7AB6EA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E0AE-58D9-4AE5-B16B-EA0CD060D9F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ftr" idx="5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dt" idx="5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57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CEB1-70A0-4DE0-8EB7-BC51BBB70D7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1CA6-FFB6-4427-8613-CF0072E1001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4E46-5732-4AD7-967F-66768D3B24A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6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62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3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0B2E-471A-4656-AF34-E6595FE9AC2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6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6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66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280C-E7B0-4690-8229-ABF3EFF69AB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dt" idx="6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ftr" idx="6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sldNum" idx="69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32D5-661C-4AE3-9A48-839A3AA17F6D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Num" idx="7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0729-1B5D-461A-8EAE-80836448065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dt" idx="7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72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sldNum" idx="73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F137-A86D-42CF-A2CF-47A36D29A0B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dt" idx="74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ftr" idx="75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7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7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7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A8AC-682C-487F-A3EE-E6FF6CE7643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sldNum" idx="79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836E-13D5-4AE9-9D63-5BE6C0FB35C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dt" idx="8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ftr" idx="8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07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9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10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1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31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dt" idx="8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 type="ftr" idx="8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 type="sldNum" idx="8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00D2-BEF4-4012-A8D1-5D544905C5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5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5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360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D788-05A3-4DA0-A29D-7A024667EF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0D62-5658-44FF-B238-45675458666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0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0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DA50-85A1-432F-950E-DC830B08A1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518E-6566-4EDF-A7D8-5CE80D0A38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9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89CC-A01D-4009-9508-A366DFCE7B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EFE4-5C4F-47EE-982D-96C1ECFF9A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1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82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84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85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CC5D-A821-42DD-A317-EAF20F1C53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A27D-6AA9-4829-94BA-FF0975741B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E1FE-2EC3-40A2-8753-C0F5B9828B79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6415-7C27-4545-9C9B-641FF2FB75A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15A7-46AA-462B-9AF4-4C3E5FD8038F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78C2-1CF1-4DCE-9A8A-09F67CE1864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33A0-8D77-4E1E-8CD6-33B33BBB6C7D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8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4400" cy="1597320"/>
          </a:xfrm>
          <a:prstGeom prst="rect">
            <a:avLst/>
          </a:prstGeom>
          <a:ln w="0">
            <a:noFill/>
          </a:ln>
        </p:spPr>
      </p:pic>
      <p:pic>
        <p:nvPicPr>
          <p:cNvPr id="1629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THEMATICS AND TECHN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The mathematical and technological skills that I learned and applied throughout this project was I formatted excel cells to calculate my work just like a calculator would. For example, to calculate the total amount I spent shopping for my dorm in collage, I type in =SUM(D11:D29) in the bottom cell and it calculated for 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ffective Develop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1898a"/>
                </a:solidFill>
                <a:latin typeface="Georgia"/>
              </a:rPr>
              <a:t>This project has increased my knowledge of self because doing it made me have to think about what collage I wanted to go to and it told me how I felt about the dissentions I had to make.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3171e"/>
                </a:solidFill>
                <a:latin typeface="Lucida Sans Unicode"/>
              </a:rPr>
              <a:t>Some decisions I had to make were I had to decide how to spend my money at the store for food and I had to decide what collage to go to and what to buy for my dorm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39:14Z</dcterms:created>
  <dc:creator>ITSUser</dc:creator>
  <dc:description/>
  <dc:language>en-US</dc:language>
  <cp:lastModifiedBy>ITSUser</cp:lastModifiedBy>
  <dcterms:modified xsi:type="dcterms:W3CDTF">2010-02-10T20:58:05Z</dcterms:modified>
  <cp:revision>7</cp:revision>
  <dc:subject/>
  <dc:title>MY COLLEGE PLANING REFLECTION</dc:title>
</cp:coreProperties>
</file>